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BE985-DD1F-4B21-A754-9E9598EFD4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3555000"/>
            <a:ext cx="8839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88131-7B60-474A-BD05-77B5CFFD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8800" y="60948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355500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8800" y="355500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A8039-6185-402B-A4C4-EE8F7B86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284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88000" y="609480"/>
            <a:ext cx="284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6720" y="609480"/>
            <a:ext cx="284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3555000"/>
            <a:ext cx="284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88000" y="3555000"/>
            <a:ext cx="284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6720" y="3555000"/>
            <a:ext cx="284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5F446-0513-4DB1-8560-DF8669A3B3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2415C-2329-4735-8287-7CC5DDC6E4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95C46-661B-490C-A7BF-18F63B9F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46858-F0DB-482A-9388-F754549A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4313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28800" y="609480"/>
            <a:ext cx="4313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264E1-CE51-45A4-83F9-0CDC26A3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8ED34-6232-4C60-9266-B148CECB3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883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8BD76-6352-4504-BE10-52C4904F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28800" y="609480"/>
            <a:ext cx="4313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-360" y="355500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DB374-A03D-4970-82E5-1E80FE45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D45DD-FE93-4316-851E-45027F2F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4313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28800" y="60948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28800" y="355500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1BDA2-3D5A-4C5A-8B6E-B07F8FCF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28800" y="60948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-360" y="3555000"/>
            <a:ext cx="8839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C100E-E0E6-445F-8539-4ECA9560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-360" y="3555000"/>
            <a:ext cx="8839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728BF-FB18-41C3-A1F2-25BF36EC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8800" y="60948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-360" y="355500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28800" y="355500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A6655-B075-4170-AA20-626B15E0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284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88000" y="609480"/>
            <a:ext cx="284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6720" y="609480"/>
            <a:ext cx="284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-360" y="3555000"/>
            <a:ext cx="284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88000" y="3555000"/>
            <a:ext cx="284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6720" y="3555000"/>
            <a:ext cx="284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1AA69-0F22-44EF-B8CA-D53704A214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1884B-1BB7-40A0-B561-4BD33FF9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4313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8800" y="609480"/>
            <a:ext cx="4313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02170-0E98-4772-B2DC-BFC30E0A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2961E-D416-479F-A470-6A03B757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883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20802-26DD-4754-B983-78A98D86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8800" y="609480"/>
            <a:ext cx="4313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355500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22326-7F49-4313-90CC-20BD460B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4313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8800" y="60948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8800" y="355500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4444D-A222-4CB0-8AC2-519EB8BB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8800" y="60948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3555000"/>
            <a:ext cx="8839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865F8-4448-4DE3-A8CB-FFC6F98B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14185" b="6754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Century Gothic"/>
                <a:ea typeface="바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  <a:ea typeface="바탕"/>
              </a:rPr>
              <a:t>Team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  <a:ea typeface="바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09920" y="6629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Century Gothic"/>
                <a:ea typeface="바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2D57-D53D-4694-910A-5D0CBDA3AD5E}" type="slidenum">
              <a:rPr b="0" lang="en-US" sz="800" spc="-1" strike="noStrike">
                <a:solidFill>
                  <a:srgbClr val="ffffff"/>
                </a:solidFill>
                <a:latin typeface="Century Gothic"/>
                <a:ea typeface="바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09480"/>
            <a:ext cx="8878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4185" b="6754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Century Gothic"/>
                <a:ea typeface="바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  <a:ea typeface="바탕"/>
              </a:rPr>
              <a:t>Team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  <a:ea typeface="바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Century Gothic"/>
                <a:ea typeface="바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A29D-7D13-4094-AF70-14803F1B22F1}" type="slidenum">
              <a:rPr b="0" lang="en-US" sz="800" spc="-1" strike="noStrike">
                <a:solidFill>
                  <a:srgbClr val="ffffff"/>
                </a:solidFill>
                <a:latin typeface="Century Gothic"/>
                <a:ea typeface="바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609480"/>
            <a:ext cx="8878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Funky Bunch Airline Consultin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Presents an Inventory Management Tool for Hub &amp; Spoke Airlines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November 29, 2004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Decision Models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Professor Juran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Century Gothic"/>
              </a:rPr>
              <a:t>Team 5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Tricktickler D. Money 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Ghetto Fabulous L. Sweetness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D. Magical Sakagawa Silk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The Deacon Dr. Treinen Smooth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Route Network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From its Des Moines hub, Soul Plane serves 5 major cities across the “Soul-belt”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env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mah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arg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inneapol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hicag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614680" y="1766880"/>
            <a:ext cx="6224400" cy="4260960"/>
            <a:chOff x="2614680" y="1766880"/>
            <a:chExt cx="6224400" cy="426096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2614680" y="1766880"/>
              <a:ext cx="6224400" cy="42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530520" y="2243160"/>
              <a:ext cx="3173400" cy="1954080"/>
            </a:xfrm>
            <a:custGeom>
              <a:avLst/>
              <a:gdLst/>
              <a:ahLst/>
              <a:rect l="l" t="t" r="r" b="b"/>
              <a:pathLst>
                <a:path w="2496" h="1536">
                  <a:moveTo>
                    <a:pt x="0" y="1152"/>
                  </a:moveTo>
                  <a:lnTo>
                    <a:pt x="528" y="96"/>
                  </a:lnTo>
                  <a:lnTo>
                    <a:pt x="1200" y="0"/>
                  </a:lnTo>
                  <a:lnTo>
                    <a:pt x="1920" y="288"/>
                  </a:lnTo>
                  <a:lnTo>
                    <a:pt x="2496" y="720"/>
                  </a:lnTo>
                  <a:lnTo>
                    <a:pt x="2400" y="1152"/>
                  </a:lnTo>
                  <a:lnTo>
                    <a:pt x="1920" y="1200"/>
                  </a:lnTo>
                  <a:lnTo>
                    <a:pt x="1536" y="1248"/>
                  </a:lnTo>
                  <a:lnTo>
                    <a:pt x="1152" y="1248"/>
                  </a:lnTo>
                  <a:lnTo>
                    <a:pt x="960" y="1200"/>
                  </a:lnTo>
                  <a:lnTo>
                    <a:pt x="576" y="1392"/>
                  </a:lnTo>
                  <a:lnTo>
                    <a:pt x="384" y="1536"/>
                  </a:lnTo>
                  <a:lnTo>
                    <a:pt x="192" y="1488"/>
                  </a:lnTo>
                  <a:lnTo>
                    <a:pt x="0" y="1392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aeb4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3775320" y="3281400"/>
              <a:ext cx="1707480" cy="684720"/>
              <a:chOff x="3775320" y="3281400"/>
              <a:chExt cx="1707480" cy="684720"/>
            </a:xfrm>
          </p:grpSpPr>
          <p:sp>
            <p:nvSpPr>
              <p:cNvPr id="144" name=""/>
              <p:cNvSpPr/>
              <p:nvPr/>
            </p:nvSpPr>
            <p:spPr>
              <a:xfrm>
                <a:off x="3775320" y="3597840"/>
                <a:ext cx="66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4261680" y="3281400"/>
                <a:ext cx="1221120" cy="42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4176720" y="2365200"/>
              <a:ext cx="2484720" cy="1234080"/>
              <a:chOff x="4176720" y="2365200"/>
              <a:chExt cx="2484720" cy="1234080"/>
            </a:xfrm>
          </p:grpSpPr>
          <p:sp>
            <p:nvSpPr>
              <p:cNvPr id="147" name=""/>
              <p:cNvSpPr/>
              <p:nvPr/>
            </p:nvSpPr>
            <p:spPr>
              <a:xfrm>
                <a:off x="4176720" y="3231000"/>
                <a:ext cx="71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M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359600" y="236520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S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422680" y="2670120"/>
                <a:ext cx="67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973120" y="309744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4566600" y="2609280"/>
                <a:ext cx="1465200" cy="671040"/>
                <a:chOff x="4566600" y="2609280"/>
                <a:chExt cx="1465200" cy="6710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482440" y="3280320"/>
                  <a:ext cx="549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3" name=""/>
                <p:cNvGrpSpPr/>
                <p:nvPr/>
              </p:nvGrpSpPr>
              <p:grpSpPr>
                <a:xfrm>
                  <a:off x="4566600" y="2609280"/>
                  <a:ext cx="1098360" cy="671040"/>
                  <a:chOff x="4566600" y="2609280"/>
                  <a:chExt cx="1098360" cy="67104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flipH="1">
                    <a:off x="4566600" y="3280320"/>
                    <a:ext cx="915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4627440" y="2609280"/>
                    <a:ext cx="1037520" cy="671040"/>
                    <a:chOff x="4627440" y="2609280"/>
                    <a:chExt cx="1037520" cy="671040"/>
                  </a:xfrm>
                </p:grpSpPr>
                <p:sp>
                  <p:nvSpPr>
                    <p:cNvPr id="156" name=""/>
                    <p:cNvSpPr/>
                    <p:nvPr/>
                  </p:nvSpPr>
                  <p:spPr>
                    <a:xfrm flipV="1">
                      <a:off x="5482080" y="2914200"/>
                      <a:ext cx="182880" cy="365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 flipH="1" flipV="1">
                      <a:off x="4627440" y="2609280"/>
                      <a:ext cx="854280" cy="671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58" name=""/>
            <p:cNvSpPr/>
            <p:nvPr/>
          </p:nvSpPr>
          <p:spPr>
            <a:xfrm>
              <a:off x="5056200" y="2976480"/>
              <a:ext cx="770040" cy="731880"/>
            </a:xfrm>
            <a:prstGeom prst="star5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10120" y="3586320"/>
              <a:ext cx="427320" cy="67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48520" y="4038480"/>
              <a:ext cx="116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soul-be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Market Research: Demand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Each market has a different level of demand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84080" y="1981080"/>
            <a:ext cx="75866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Market Research: Supply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The Soul Belt market is a highly competitive one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49476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Market Research: Price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Prices are different in each market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49240" y="2004840"/>
            <a:ext cx="74566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oul Plane is a Price Taker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However, their experience reflects their ability to capture yield relative to the industry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076400" y="1447920"/>
            <a:ext cx="691524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Optimized Inventory Allocation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The optimal inventory allocation proves the “double-dip” hypothesis 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73280" y="1981080"/>
            <a:ext cx="7565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trategic Concern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To establish itself as the premier airline among pimps and hos, Soul Plane must sell seats in each of the soul-belt markets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e can introduce a constrai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evised “optimal” inventory allocation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03440" y="2665440"/>
            <a:ext cx="762768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Yo, who’s got questions?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52280" y="1201680"/>
            <a:ext cx="883944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Hub and Spoke?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A “hub and spoke” airline operates waves of flights into and out of a central hub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pposite of a point-to-point carri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90720" y="2590920"/>
            <a:ext cx="6933600" cy="3124800"/>
            <a:chOff x="990720" y="2590920"/>
            <a:chExt cx="6933600" cy="3124800"/>
          </a:xfrm>
        </p:grpSpPr>
        <p:grpSp>
          <p:nvGrpSpPr>
            <p:cNvPr id="89" name=""/>
            <p:cNvGrpSpPr/>
            <p:nvPr/>
          </p:nvGrpSpPr>
          <p:grpSpPr>
            <a:xfrm>
              <a:off x="990720" y="2590920"/>
              <a:ext cx="3047760" cy="3124800"/>
              <a:chOff x="990720" y="2590920"/>
              <a:chExt cx="3047760" cy="312480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1028880" y="3016080"/>
                <a:ext cx="2971800" cy="2699640"/>
                <a:chOff x="1028880" y="3016080"/>
                <a:chExt cx="2971800" cy="26996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2171880" y="3870000"/>
                  <a:ext cx="7621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entury Gothic"/>
                    </a:rPr>
                    <a:t>Hu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entury Gothic"/>
                    </a:rPr>
                    <a:t>Cit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057760" y="5073120"/>
                  <a:ext cx="990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entury Gothic"/>
                    </a:rPr>
                    <a:t>Spok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entury Gothic"/>
                    </a:rPr>
                    <a:t>Cit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028880" y="3016080"/>
                  <a:ext cx="990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entury Gothic"/>
                    </a:rPr>
                    <a:t>Spok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entury Gothic"/>
                    </a:rPr>
                    <a:t>Cit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010320" y="3016080"/>
                  <a:ext cx="990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entury Gothic"/>
                    </a:rPr>
                    <a:t>Spok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entury Gothic"/>
                    </a:rPr>
                    <a:t>Cit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" name=""/>
                <p:cNvGrpSpPr/>
                <p:nvPr/>
              </p:nvGrpSpPr>
              <p:grpSpPr>
                <a:xfrm>
                  <a:off x="1843560" y="3501360"/>
                  <a:ext cx="404640" cy="428040"/>
                  <a:chOff x="1843560" y="3501360"/>
                  <a:chExt cx="404640" cy="42804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1843560" y="3577680"/>
                    <a:ext cx="404640" cy="3517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flipV="1">
                    <a:off x="1843560" y="3501360"/>
                    <a:ext cx="404640" cy="3517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2505960" y="4524840"/>
                  <a:ext cx="65160" cy="587160"/>
                  <a:chOff x="2505960" y="4524840"/>
                  <a:chExt cx="65160" cy="58716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flipV="1">
                    <a:off x="2562480" y="4524840"/>
                    <a:ext cx="8640" cy="5364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2505960" y="4575600"/>
                    <a:ext cx="8640" cy="5364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2781720" y="3548880"/>
                  <a:ext cx="428040" cy="404640"/>
                  <a:chOff x="2781720" y="3548880"/>
                  <a:chExt cx="428040" cy="40464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V="1">
                    <a:off x="2857680" y="3548880"/>
                    <a:ext cx="352080" cy="404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>
                    <a:off x="2781720" y="3549240"/>
                    <a:ext cx="352080" cy="404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4" name=""/>
              <p:cNvSpPr/>
              <p:nvPr/>
            </p:nvSpPr>
            <p:spPr>
              <a:xfrm>
                <a:off x="990720" y="2590920"/>
                <a:ext cx="304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ffff"/>
                    </a:solidFill>
                    <a:uFillTx/>
                    <a:latin typeface="Century Gothic"/>
                  </a:rPr>
                  <a:t>Hub and Spoke Syste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4876560" y="2590920"/>
              <a:ext cx="3047760" cy="1816200"/>
              <a:chOff x="4876560" y="2590920"/>
              <a:chExt cx="3047760" cy="1816200"/>
            </a:xfrm>
          </p:grpSpPr>
          <p:sp>
            <p:nvSpPr>
              <p:cNvPr id="106" name=""/>
              <p:cNvSpPr/>
              <p:nvPr/>
            </p:nvSpPr>
            <p:spPr>
              <a:xfrm>
                <a:off x="4914360" y="3016440"/>
                <a:ext cx="99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C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5637960" y="3276360"/>
                <a:ext cx="404640" cy="429120"/>
                <a:chOff x="5637960" y="3276360"/>
                <a:chExt cx="404640" cy="42912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638320" y="3353040"/>
                  <a:ext cx="404280" cy="352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H="1" flipV="1">
                  <a:off x="5637960" y="3276360"/>
                  <a:ext cx="404280" cy="352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7190640" y="3414240"/>
                <a:ext cx="65880" cy="587160"/>
                <a:chOff x="7190640" y="3414240"/>
                <a:chExt cx="65880" cy="587160"/>
              </a:xfrm>
            </p:grpSpPr>
            <p:sp>
              <p:nvSpPr>
                <p:cNvPr id="111" name=""/>
                <p:cNvSpPr/>
                <p:nvPr/>
              </p:nvSpPr>
              <p:spPr>
                <a:xfrm flipH="1" flipV="1">
                  <a:off x="7247520" y="3414240"/>
                  <a:ext cx="9000" cy="536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190640" y="3465360"/>
                  <a:ext cx="9000" cy="536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6552360" y="3276720"/>
                <a:ext cx="428040" cy="404640"/>
                <a:chOff x="6552360" y="3276720"/>
                <a:chExt cx="428040" cy="404640"/>
              </a:xfrm>
            </p:grpSpPr>
            <p:sp>
              <p:nvSpPr>
                <p:cNvPr id="114" name=""/>
                <p:cNvSpPr/>
                <p:nvPr/>
              </p:nvSpPr>
              <p:spPr>
                <a:xfrm flipV="1">
                  <a:off x="6628680" y="3276720"/>
                  <a:ext cx="351720" cy="404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>
                  <a:off x="6552360" y="3276720"/>
                  <a:ext cx="351720" cy="404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4876560" y="2590920"/>
                <a:ext cx="304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ffff"/>
                    </a:solidFill>
                    <a:uFillTx/>
                    <a:latin typeface="Century Gothic"/>
                  </a:rPr>
                  <a:t>Point-to-Point Syste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790600" y="3595680"/>
                <a:ext cx="99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C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705000" y="3048120"/>
                <a:ext cx="99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C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05000" y="4038840"/>
                <a:ext cx="99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C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Hub &amp; Spoke vs. Point-to-Point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There are advantages and disadvantages to the Hub &amp; Spoke system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523880"/>
            <a:ext cx="44197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entury Gothic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ore markets available for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ore full f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onopoly power in hub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oncentrated Buying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ower co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1523880"/>
            <a:ext cx="4419720" cy="32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entury Gothic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ir traffic 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nderutilized labor and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onger routing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ess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ess Effici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Introducing Inventory Management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Hub &amp; Spoke carriers face a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Century Gothic"/>
              </a:rPr>
              <a:t>critical challenge</a:t>
            </a: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: inventory management 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onsider a Hypothetical hub and spoke airline serving 100 ci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99 destinations available for sale from each origi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9,800 city pairs available for sal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ach with their own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eman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uppl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ric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t is difficult for the airline to determine which city pairs to sel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here and how do they spend their marketing dollars??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What we propose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A decision model used to allocate inventory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bjective Function: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ptimize profitabilit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ecision Variables: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Number of seats to allocate to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ach marke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onstraints: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Number of seats into and out of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ach market cannot exceed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apacity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Assumption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ustomer demand is fixed and consta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e will acquire fair share of the market (Market share = capacity share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 connecting passenger costs an additional $50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ne type of aircraf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Input Data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Reliable data can be found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Form 41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.S. Air Carriers are required to file Form 41 dat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ublished at summary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ata includ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Number of passengers carrie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verage ticket pric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Number of flights operate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Official Airline Guid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arriers participate voluntarily (most do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 schedule for all airlin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Airline reservation system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icket pric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ome visibility to inventory manageme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Introducing Juran’s Soul Plane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Juran’s Soul Plane is fizzy of an airline, serving the soul capital of the world Des Moines, IA.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8229600" cy="3138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438280" y="4341960"/>
            <a:ext cx="43434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ituation Facing Juran’s Soul Plane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oul Plane has discovered a flourishing untapped marke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anagement has chosen a hub &amp; spoke syste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Given estimated demand, supply and price how should Soul Plane allocated inventory to maximize profits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7T15:05:25Z</dcterms:created>
  <dc:creator> </dc:creator>
  <dc:description/>
  <dc:language>en-US</dc:language>
  <cp:lastModifiedBy> </cp:lastModifiedBy>
  <dcterms:modified xsi:type="dcterms:W3CDTF">2004-11-29T13:14:51Z</dcterms:modified>
  <cp:revision>32</cp:revision>
  <dc:subject/>
  <dc:title>A viable concer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50975936</vt:r8>
  </property>
  <property fmtid="{D5CDD505-2E9C-101B-9397-08002B2CF9AE}" pid="3" name="_AuthorEmail">
    <vt:lpwstr>lori.kessler@stern.nyu.edu</vt:lpwstr>
  </property>
  <property fmtid="{D5CDD505-2E9C-101B-9397-08002B2CF9AE}" pid="4" name="_AuthorEmailDisplayName">
    <vt:lpwstr>Lori Kessler</vt:lpwstr>
  </property>
  <property fmtid="{D5CDD505-2E9C-101B-9397-08002B2CF9AE}" pid="5" name="_EmailSubject">
    <vt:lpwstr>Team 5 Final Project - #2</vt:lpwstr>
  </property>
  <property fmtid="{D5CDD505-2E9C-101B-9397-08002B2CF9AE}" pid="6" name="_PreviousAdHocReviewCycleID">
    <vt:r8>689498990</vt:r8>
  </property>
</Properties>
</file>